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83E-2E5A-42B4-87BC-6750D5A5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A4A-FC30-46C9-A79B-505ED23B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A02-226D-41C2-9C5C-EFA101C0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C4B-311A-47DD-9B48-A32E714B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42E-0ED2-447D-AEF8-1A3A956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8B8-101B-409C-8375-096E4FAF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071-BEF1-45C4-9051-8FF23CB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97E-A145-4ADE-9573-B467DE8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733-DBDF-4C85-A502-5FBD1170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7FA-6F36-4AC9-9566-C603ABD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FF9-B1CC-482D-9A18-7B66F30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19D-11EC-4AD7-8FBE-8C57B96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8CA4-5A83-407A-8B2A-379C6994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s.harvard.edu/~vsdb/phototoc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fuciusonline.com/chinesephilosophy/legalism/1297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81080"/>
            <a:ext cx="556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greates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 in Lu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part of a noble family then became poor and orpha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edu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simple lessons for l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1 – 479 BCE   during the last years of the Zhou Dyna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and mutual respect among people led to pe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others the way you would want to be treated – Golde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18288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160020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idea of Confuci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 between two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existing in harmony with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confucius ren"/>
          <p:cNvPicPr/>
          <p:nvPr/>
        </p:nvPicPr>
        <p:blipFill>
          <a:blip r:embed="rId1"/>
          <a:stretch/>
        </p:blipFill>
        <p:spPr>
          <a:xfrm>
            <a:off x="3352680" y="25146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05740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 and w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and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brother and younger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 and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 and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rity (honest), loyalty (trusting), mutual respect (conside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very important and children should respect thei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 should act like good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should be based on goo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officials should earn their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19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love for all people and respect for all people will bring pe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010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eople are bad by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strong government with strict laws and harsh punishments can keep the evil 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Legalism philoso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65720" y="1066680"/>
            <a:ext cx="47782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O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9810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o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a small and simpl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leaders work quietly in the background and do not worry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find Dao – “the way” of the universe by being in harmony with nature and in touch with your inner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119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9:06:17Z</dcterms:created>
  <dc:creator>gehadde</dc:creator>
  <dc:description/>
  <dc:language>en-US</dc:language>
  <cp:lastModifiedBy>gehadde</cp:lastModifiedBy>
  <dcterms:modified xsi:type="dcterms:W3CDTF">2012-03-16T12:38:44Z</dcterms:modified>
  <cp:revision>21</cp:revision>
  <dc:subject/>
  <dc:title>WARM-UP: #5</dc:title>
</cp:coreProperties>
</file>